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7132F-11A6-4117-9F91-77CD96E04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E60FD-A29D-4F10-BDE8-AD6A8B3A0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D55C4-B93D-439B-95A7-C4F9089F1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D0A03-F6FB-4437-A409-FD900C692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40194-D3E3-482C-A4C4-739EB6FD4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9BD9B-23AF-4A37-B5BA-0B11640E3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5E0AC-87E3-4D96-9C31-075AB77BD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FE64C-21D7-4EBE-9959-C370058CD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43482-8815-469D-96FE-D18CEC71F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CCE20-7EDF-46A2-9A1D-371CA5D66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41925-F8E3-44A4-AEC3-A59BD4A6A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0CE9E-BECD-4494-B723-D235BA663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026A-DED2-44AE-841F-401122BB06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lfrederick@hoover.k12.al.us" TargetMode="Externa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066680" y="609480"/>
            <a:ext cx="7315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ff00"/>
                </a:solidFill>
                <a:effectLst>
                  <a:outerShdw dist="17819" dir="2700000" blurRad="0" rotWithShape="0">
                    <a:srgbClr val="808080">
                      <a:alpha val="80000"/>
                    </a:srgbClr>
                  </a:outerShdw>
                </a:effectLst>
                <a:latin typeface="Batik Regular"/>
              </a:rPr>
              <a:t>Frederick's Flicks</a:t>
            </a:r>
            <a:endParaRPr b="1" i="1" lang="en-US" sz="4400" spc="1" strike="noStrike">
              <a:ln w="9360">
                <a:solidFill>
                  <a:srgbClr val="000000"/>
                </a:solidFill>
                <a:miter/>
              </a:ln>
              <a:solidFill>
                <a:srgbClr val="00ff00"/>
              </a:solidFill>
              <a:effectLst>
                <a:outerShdw dist="17819" dir="2700000" blurRad="0" rotWithShape="0">
                  <a:srgbClr val="808080">
                    <a:alpha val="80000"/>
                  </a:srgbClr>
                </a:outerShdw>
              </a:effectLst>
              <a:latin typeface="Batik Regular"/>
              <a:ea typeface="Batik Regular"/>
            </a:endParaRPr>
          </a:p>
        </p:txBody>
      </p:sp>
      <p:sp>
        <p:nvSpPr>
          <p:cNvPr id="42" name=""/>
          <p:cNvSpPr/>
          <p:nvPr/>
        </p:nvSpPr>
        <p:spPr>
          <a:xfrm>
            <a:off x="1295280" y="2362320"/>
            <a:ext cx="67820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I am LaRue Frederick.  My goal is to provide your children with a learning environment that encourages each of them to do their best while being good citizens that show respect for all.  Please make sure you are familiar with the attendance policy and dress code.  Please feel free to contact me at anytime through email (</a:t>
            </a:r>
            <a:r>
              <a:rPr b="0" lang="en-US" sz="1800" spc="-1" strike="noStrike" u="sng">
                <a:solidFill>
                  <a:srgbClr val="009999"/>
                </a:solidFill>
                <a:uFillTx/>
                <a:latin typeface="Arial"/>
                <a:hlinkClick r:id="rId1"/>
              </a:rPr>
              <a:t>lfrederick@hoover.k12.al.us</a:t>
            </a:r>
            <a:r>
              <a:rPr b="0" lang="en-US" sz="1800" spc="-1" strike="noStrike">
                <a:solidFill>
                  <a:srgbClr val="000000"/>
                </a:solidFill>
                <a:latin typeface="Arial"/>
              </a:rPr>
              <a:t>), a note, or by phone (439-34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5:29:33Z</dcterms:created>
  <dc:creator> Anita Frederick</dc:creator>
  <dc:description/>
  <dc:language>en-US</dc:language>
  <cp:lastModifiedBy> Anita Frederick</cp:lastModifiedBy>
  <dcterms:modified xsi:type="dcterms:W3CDTF">2008-06-13T05:33:14Z</dcterms:modified>
  <cp:revision>3</cp:revision>
  <dc:subject/>
  <dc:title>Slide 1</dc:title>
</cp:coreProperties>
</file>